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22.gif" ContentType="image/gif"/>
  <Override PartName="/ppt/media/image4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4.xml" ContentType="application/vnd.openxmlformats-officedocument.presentationml.comments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6-08-26T23:22:37.546000000" idx="2">
    <p:pos x="5362" y="764"/>
    <p:text/>
  </p:cm>
</p:cmLst>
</file>

<file path=ppt/comments/comment4.xml><?xml version="1.0" encoding="utf-8"?>
<p:cmLst xmlns:p="http://schemas.openxmlformats.org/presentationml/2006/main">
  <p:cm authorId="0" dt="2016-08-26T23:22:31.107000000" idx="1">
    <p:pos x="3959" y="783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B93-595F-4DDF-A709-FDC4A311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4F0A-956B-4923-AABB-16F0CBF1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CDA96-02A6-46FA-B450-6F709925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32156-E48B-4CF1-BD88-D82F4260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6DD47-D674-4B30-B994-EF8A3087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2CD65-1641-4448-B8B0-5FCAC54E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CB550-1E84-4FC5-B6B4-84595A3A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DC324-2E14-4F5D-A78C-A5CE76E4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0305F-EE12-4C65-8468-C14F8399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BF855-F879-475C-8A67-C05E7417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0253F-DA97-4270-AAD7-96B190B7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08CE2-88F7-4329-86BE-6D78F0E1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FF0-F5E4-4F1E-A1C2-90B3F8BF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99E2F-2961-41EC-A70D-7133467F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C7B8A-4DE4-4A2B-BA8E-75AAA5F8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03696-7F1B-47C9-A3F5-5311AF06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D4787-9C87-4231-9CDB-4B297CB5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82D77-623F-449E-BCA0-5EBA8B0D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1AC27-B231-4028-B421-7EF448EF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2A4AF-DF23-4ED5-9DB2-2050CAB8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C1E38-1315-4DC6-90D0-88896724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8E3F6-7680-4464-ABCB-CA00EF46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DC2C6-5D64-4C2F-AD49-503C8502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290-EF52-46EF-8B17-1502B587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56E74-6B88-415D-B448-7B525E09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36C45-5083-4C5E-8C1E-DDDD1A6B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4EC17-E3A8-4447-BC97-979EBAA7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0A131-5A37-4F9D-8509-D5459972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404CD-B0A5-480C-9480-10B4A803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147A6-8635-4550-93F8-062E79F5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4B40B-83EE-424D-A238-E6531D53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17C6C-5486-4EA5-BA93-5CE6B854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AF46C-86B9-477C-96BD-58136C3E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2140B-E37B-4A34-86FE-5149DE35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934D-010D-43E2-A818-1EA8F968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1921C-5B3D-41C6-A0AD-62C2D5E0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7F1D9-F220-4246-9B99-CE2EC68C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2C125-26BD-401A-9B40-FF1B89E5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BEAB3-07BE-4EB4-AFD4-0A59504F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3F6F7-9001-415D-9E18-767DFECD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106AA-3A33-401A-821D-8E28BBB1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76ABF-9147-415F-9114-EE4C1A7A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94A60-90FC-4711-B4AF-44140337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D9081-242F-4C73-9617-D6D957E9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02B59-7B40-441A-8D6C-0CDDF406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7669-F504-4058-97FB-A3C3D437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D5C29-6D13-4DFD-8CB7-0C14665D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D7FED-6C3C-466E-A93D-4CBF115D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6DE87-18B8-4FBB-8D86-52EF9836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1AD4C-174E-49A0-9172-FE77CB05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0A1E7-C179-49CA-BDFB-03B626A9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689F-0352-401C-AF67-41881B69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DD23-498D-4A78-A123-CF543BC0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13EC-E946-4971-8FB5-641622D4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23A4-6667-447C-9592-164F9EAE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9588-91B4-4310-9D35-04F317CA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FD3-C4CF-4366-A66F-D956739C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AE2A-B5B9-46AF-94C0-DDCC29A8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1507-856D-4AC9-BC4D-7F15D5FF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5C58-8ABC-4019-AAB6-A1560EEE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B6AD-EE26-4B06-8E27-9659B278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4F69-1999-41DE-9DEA-04DD5BC6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FF155-FF9D-41CE-A744-EB1DA7B8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E7F6-FF61-44A9-9FC5-A0449E30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68BA-31BC-42EE-9667-88E91203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F2026-F8E4-4520-A7B3-EE09663B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D54FE-702D-4F2B-8DC4-4EC453CA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276-C34C-4FB6-B995-1A4F05DA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CDE4-1BD4-4633-AC83-D96A9601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E56EF-FEAB-4176-B85C-8DCC07BB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B5D57-549A-4F26-954E-507D5098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CC5E0-ACA9-4B94-8FB3-00C0E6E4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9E171-CFCE-47C2-9EF4-2ABB9D00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15778-CEA1-414F-BC17-D8A7437A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A2EC6-F76F-419D-AF6A-FD4E9829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72032-ACBA-418C-AE82-EFB76CF5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A39A-1300-48C4-B48F-B7AB50A6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D0EC6-D063-4EE8-9EC9-6E113A14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303-AF19-4784-BC11-900D9D9A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7187-34F7-4832-90EB-C097CAA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3A43E-F9F8-49CC-B067-9B550120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845B9-6800-450B-B9DE-B1FD1D7F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16452-5723-44D9-8232-DC2DD72F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AD75A-BD81-4276-B9DE-3801F389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AF4D5-6756-4F40-BFEC-CEC7B288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CC297-C7F8-4CE9-9730-FB941F14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19C2C-7080-42F1-8B68-686A3BBE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206C2-450B-4710-8DC7-71EA2A2F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E646E-A960-4177-92B4-C58DAE51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4A7-8E00-4E1B-9E96-1BD144E7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5F053-E993-4FEB-B810-D8C4A1B5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05C69-F043-42F7-A69E-F081FE75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A177F-C186-403D-B08B-FAAEC646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66363-6823-4B0E-8110-AAE62C97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6EFC7-ADED-4920-84E8-2D226899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F17B7-2778-4D02-B381-C796EA24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D5080-E3AC-4A0E-AC3E-756ED45A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A9190-1FC8-4B00-82E4-D8B8ABDC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1C534-FA6A-4236-AD29-25C95DCF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11D80-A617-4A92-B62B-E8E38C62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0DB-6DE8-4F89-972F-10387F4A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14EEA-8BB9-4CA6-BE42-A6C8922D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42C5C-358E-49B7-9CD4-5912ECEB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4FAC8-7F98-40B8-BF48-57222318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627CE-D88F-46CD-BE8A-AD4846EF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A3ED1-9FB3-477A-9DBF-9BA0F275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73005-C701-4F8F-BCB7-F6457413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72D70-2045-4935-9CC8-DDCD831C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ABA15-E3B1-40C9-8DB9-AD4888DC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A0DEC-B71C-4A84-95DF-ABFEF5C6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522CE-888D-4C69-AB1A-CCE0288A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78C-18C1-450F-BCB1-5ACA12D9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ADAB1-9CE4-4B75-92F9-12CCAE5C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19012-C547-4548-9FD4-A483A29F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F741B-5AA5-4AC5-9A33-19D4D9D8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F2C95-AB13-4A14-834C-351A1CDE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7A388-F3A5-495C-9B57-82035B26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2128D-7C90-455D-A5C3-2A8E1BC2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972F4-5418-4CD9-9CC9-4B280497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F312F-1815-4CA6-A78D-945C7CCA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8A347-3963-47CF-9C52-FA509B9C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176B5-0768-44A3-9C52-3B24D03B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FEF-8181-49EE-ABEC-1EF4E356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36351-5F82-41CD-815A-131ABA52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F7F75-E9A6-4A13-BF7E-2579186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3552D-E959-4F0D-88B9-1A2716C9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6128B-BAAC-4B65-90D2-3CF3859D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CEE5C-8497-4FD1-A658-B0EBFEF1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C279B-BE78-420B-A91B-94AC29EF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2AD06-FB80-4371-92CC-7C961896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B8CD8-314F-4030-8592-40F4BA6C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EA23C-29D3-4E75-AC26-A58270BE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67978-45C9-4BB3-8A1F-C06D243D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00F-4BA2-4D69-9196-516C39BA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579E1-4AB5-45F1-B34B-53304DB0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F0135-9328-45D0-A518-5542CE82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3181F-25A9-4D09-9012-D66A8F01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322EA-8931-4560-AA11-DD4BAFB9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C90C9-854A-483C-8DAE-E9A0445D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D2756-AAAE-48C2-9D3E-23FEE7EC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A9D6E-8058-46D2-873B-C37E2CAA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93E41-5DC6-41F9-BB81-CF0F39EF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9A90A-F697-4514-9D54-353A9C2F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0EBD6-0836-4110-858E-0C517AF6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481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481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481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482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482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482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482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6A9E-5BB4-44B2-BD35-986FC88077A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1323-ECFC-429B-AF66-4A60C52FE7B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4DA3-DF67-4940-B0FB-EE355BC2F6A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B4FE-9963-473E-BCF3-6731D2A8200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3584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1" name="椭圆 3584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584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584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584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" name="椭圆 3584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" name="椭圆 3584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" name="图片 35855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EAA8-DA02-4880-96B7-BEB508C5796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FD80-D282-4A07-8BD6-EE4C7DFC070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8DBC-C01A-4CFB-A57B-A835E69F961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49C1-20CD-4904-8EA6-7F9FE43CDFE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ACFD-1BE6-480E-A167-8AEF7A07B7B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E9E4-3636-40DA-A87E-29D629C50A0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46C0-B7E5-46C7-BE80-6319307DA1E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D38F-F766-4677-9AEE-8D3A9CBD027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2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513" name="矩形 4"/>
          <p:cNvSpPr/>
          <p:nvPr/>
        </p:nvSpPr>
        <p:spPr>
          <a:xfrm>
            <a:off x="2429640" y="638280"/>
            <a:ext cx="39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ai  ei  ui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f7cc210357692a2d728da51d"/>
          <p:cNvPicPr/>
          <p:nvPr/>
        </p:nvPicPr>
        <p:blipFill>
          <a:blip r:embed="rId1"/>
          <a:stretch/>
        </p:blipFill>
        <p:spPr>
          <a:xfrm>
            <a:off x="108000" y="981000"/>
            <a:ext cx="8856720" cy="531036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828720" y="765000"/>
            <a:ext cx="14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0" spc="-1" strike="noStrike" u="sng">
                <a:solidFill>
                  <a:srgbClr val="ff3399"/>
                </a:solidFill>
                <a:uFillTx/>
                <a:latin typeface="黑体"/>
                <a:ea typeface="黑体"/>
              </a:rPr>
              <a:t>-</a:t>
            </a:r>
            <a:endParaRPr b="0" i="1" lang="en-US" sz="2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419640" y="765000"/>
            <a:ext cx="14540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0" spc="-1" strike="noStrike" u="sng">
                <a:solidFill>
                  <a:srgbClr val="ff3399"/>
                </a:solidFill>
                <a:uFillTx/>
                <a:latin typeface="黑体"/>
                <a:ea typeface="黑体"/>
              </a:rPr>
              <a:t>-</a:t>
            </a:r>
            <a:endParaRPr b="0" i="1" lang="en-US" sz="2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3" name="Group 5"/>
          <p:cNvGrpSpPr/>
          <p:nvPr/>
        </p:nvGrpSpPr>
        <p:grpSpPr>
          <a:xfrm>
            <a:off x="395280" y="-25560"/>
            <a:ext cx="7920000" cy="5038920"/>
            <a:chOff x="395280" y="-25560"/>
            <a:chExt cx="7920000" cy="5038920"/>
          </a:xfrm>
        </p:grpSpPr>
        <p:grpSp>
          <p:nvGrpSpPr>
            <p:cNvPr id="564" name="Group 6"/>
            <p:cNvGrpSpPr/>
            <p:nvPr/>
          </p:nvGrpSpPr>
          <p:grpSpPr>
            <a:xfrm>
              <a:off x="395280" y="1774080"/>
              <a:ext cx="7920000" cy="3239280"/>
              <a:chOff x="395280" y="1774080"/>
              <a:chExt cx="7920000" cy="323928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395280" y="3933720"/>
                <a:ext cx="7848720" cy="360"/>
                <a:chOff x="395280" y="3933720"/>
                <a:chExt cx="7848720" cy="360"/>
              </a:xfrm>
            </p:grpSpPr>
            <p:sp>
              <p:nvSpPr>
                <p:cNvPr id="566" name="Line 7"/>
                <p:cNvSpPr/>
                <p:nvPr/>
              </p:nvSpPr>
              <p:spPr>
                <a:xfrm>
                  <a:off x="395280" y="393372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7" name=""/>
                <p:cNvSpPr txBox="1"/>
                <p:nvPr/>
              </p:nvSpPr>
              <p:spPr>
                <a:xfrm>
                  <a:off x="395280" y="393372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66560" y="2781720"/>
                <a:ext cx="7848720" cy="360"/>
                <a:chOff x="466560" y="2781720"/>
                <a:chExt cx="7848720" cy="360"/>
              </a:xfrm>
            </p:grpSpPr>
            <p:sp>
              <p:nvSpPr>
                <p:cNvPr id="569" name="Line 8"/>
                <p:cNvSpPr/>
                <p:nvPr/>
              </p:nvSpPr>
              <p:spPr>
                <a:xfrm>
                  <a:off x="466560" y="278172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70" name=""/>
                <p:cNvSpPr txBox="1"/>
                <p:nvPr/>
              </p:nvSpPr>
              <p:spPr>
                <a:xfrm>
                  <a:off x="466560" y="278172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395280" y="1774080"/>
                <a:ext cx="7848720" cy="360"/>
                <a:chOff x="395280" y="1774080"/>
                <a:chExt cx="7848720" cy="360"/>
              </a:xfrm>
            </p:grpSpPr>
            <p:sp>
              <p:nvSpPr>
                <p:cNvPr id="572" name="Line 9"/>
                <p:cNvSpPr/>
                <p:nvPr/>
              </p:nvSpPr>
              <p:spPr>
                <a:xfrm>
                  <a:off x="395280" y="177408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73" name=""/>
                <p:cNvSpPr txBox="1"/>
                <p:nvPr/>
              </p:nvSpPr>
              <p:spPr>
                <a:xfrm>
                  <a:off x="395280" y="177408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66560" y="5013000"/>
                <a:ext cx="7777440" cy="360"/>
                <a:chOff x="466560" y="5013000"/>
                <a:chExt cx="7777440" cy="360"/>
              </a:xfrm>
            </p:grpSpPr>
            <p:sp>
              <p:nvSpPr>
                <p:cNvPr id="575" name="Line 10"/>
                <p:cNvSpPr/>
                <p:nvPr/>
              </p:nvSpPr>
              <p:spPr>
                <a:xfrm>
                  <a:off x="466560" y="5013000"/>
                  <a:ext cx="7777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76" name=""/>
                <p:cNvSpPr txBox="1"/>
                <p:nvPr/>
              </p:nvSpPr>
              <p:spPr>
                <a:xfrm>
                  <a:off x="466560" y="5013000"/>
                  <a:ext cx="777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577" name="Text Box 11"/>
            <p:cNvSpPr/>
            <p:nvPr/>
          </p:nvSpPr>
          <p:spPr>
            <a:xfrm>
              <a:off x="2124000" y="-25560"/>
              <a:ext cx="1152720" cy="25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844920" y="1845360"/>
              <a:ext cx="176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ɑi</a:t>
              </a:r>
              <a:endParaRPr b="0" i="1" lang="en-US" sz="1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3494520" y="1845360"/>
              <a:ext cx="176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ei</a:t>
              </a:r>
              <a:endParaRPr b="0" i="1" lang="en-US" sz="1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0" name="Rectangle 14"/>
            <p:cNvSpPr/>
            <p:nvPr/>
          </p:nvSpPr>
          <p:spPr>
            <a:xfrm>
              <a:off x="6012000" y="1726200"/>
              <a:ext cx="1839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同侧圆角矩形 1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/>
          <p:cNvSpPr/>
          <p:nvPr/>
        </p:nvSpPr>
        <p:spPr>
          <a:xfrm rot="15577800">
            <a:off x="1447560" y="3352680"/>
            <a:ext cx="1295280" cy="190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7680" y="21600"/>
                </a:lnTo>
                <a:lnTo>
                  <a:pt x="1392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AutoShape 3"/>
          <p:cNvSpPr/>
          <p:nvPr/>
        </p:nvSpPr>
        <p:spPr>
          <a:xfrm rot="18846600">
            <a:off x="2212920" y="1079640"/>
            <a:ext cx="1071360" cy="198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7680" y="21600"/>
                </a:lnTo>
                <a:lnTo>
                  <a:pt x="1392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601992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f</a:t>
            </a:r>
            <a:r>
              <a:rPr b="0" i="1" lang="en-US" sz="80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ei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AutoShape 5"/>
          <p:cNvSpPr/>
          <p:nvPr/>
        </p:nvSpPr>
        <p:spPr>
          <a:xfrm rot="17350200">
            <a:off x="1488600" y="2120760"/>
            <a:ext cx="1447920" cy="190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7680" y="21600"/>
                </a:lnTo>
                <a:lnTo>
                  <a:pt x="1392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3670200" y="2666880"/>
            <a:ext cx="1981440" cy="19814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ei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9" name="WordArt 7"/>
          <p:cNvSpPr txBox="1"/>
          <p:nvPr/>
        </p:nvSpPr>
        <p:spPr>
          <a:xfrm>
            <a:off x="2603520" y="1295280"/>
            <a:ext cx="619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 u="sng">
                <a:ln w="9360">
                  <a:solidFill>
                    <a:srgbClr val="000000"/>
                  </a:solidFill>
                  <a:round/>
                </a:ln>
                <a:noFill/>
                <a:uFillTx/>
                <a:latin typeface="黑体"/>
              </a:rPr>
              <a:t>b</a:t>
            </a:r>
            <a:endParaRPr b="1" i="1" lang="en-US" sz="2400" spc="1" strike="noStrike" u="sng">
              <a:ln w="9360">
                <a:solidFill>
                  <a:srgbClr val="000000"/>
                </a:solidFill>
                <a:round/>
              </a:ln>
              <a:noFill/>
              <a:uFillTx/>
              <a:latin typeface="黑体"/>
              <a:ea typeface="黑体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5956200" y="11430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b</a:t>
            </a:r>
            <a:r>
              <a:rPr b="0" i="1" lang="en-US" sz="80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ei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6337440" y="228600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p</a:t>
            </a:r>
            <a:r>
              <a:rPr b="0" i="1" lang="en-US" sz="80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ei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261120" y="365760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m</a:t>
            </a:r>
            <a:r>
              <a:rPr b="0" i="1" lang="en-US" sz="80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ei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1231920" y="339732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m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AutoShape 12"/>
          <p:cNvSpPr/>
          <p:nvPr/>
        </p:nvSpPr>
        <p:spPr>
          <a:xfrm rot="13419000">
            <a:off x="1962000" y="4427280"/>
            <a:ext cx="1524240" cy="2057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7680" y="21600"/>
                </a:lnTo>
                <a:lnTo>
                  <a:pt x="1392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WordArt 13"/>
          <p:cNvSpPr txBox="1"/>
          <p:nvPr/>
        </p:nvSpPr>
        <p:spPr>
          <a:xfrm>
            <a:off x="2209680" y="5181480"/>
            <a:ext cx="6098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 u="sng">
                <a:ln w="9360">
                  <a:solidFill>
                    <a:srgbClr val="000000"/>
                  </a:solidFill>
                  <a:miter/>
                </a:ln>
                <a:noFill/>
                <a:uFillTx/>
                <a:latin typeface="黑体"/>
              </a:rPr>
              <a:t>f</a:t>
            </a:r>
            <a:endParaRPr b="1" i="1" lang="en-US" sz="2400" spc="1" strike="noStrike" u="sng">
              <a:ln w="9360">
                <a:solidFill>
                  <a:srgbClr val="000000"/>
                </a:solidFill>
                <a:miter/>
              </a:ln>
              <a:noFill/>
              <a:uFillTx/>
              <a:latin typeface="黑体"/>
              <a:ea typeface="黑体"/>
            </a:endParaRPr>
          </a:p>
        </p:txBody>
      </p:sp>
      <p:sp>
        <p:nvSpPr>
          <p:cNvPr id="596" name="WordArt 14"/>
          <p:cNvSpPr txBox="1"/>
          <p:nvPr/>
        </p:nvSpPr>
        <p:spPr>
          <a:xfrm>
            <a:off x="1676520" y="2514600"/>
            <a:ext cx="609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 u="sng">
                <a:ln w="9360">
                  <a:solidFill>
                    <a:srgbClr val="000000"/>
                  </a:solidFill>
                  <a:miter/>
                </a:ln>
                <a:noFill/>
                <a:uFillTx/>
                <a:latin typeface="黑体"/>
              </a:rPr>
              <a:t>p</a:t>
            </a:r>
            <a:endParaRPr b="1" i="1" lang="en-US" sz="2400" spc="1" strike="noStrike" u="sng">
              <a:ln w="9360">
                <a:solidFill>
                  <a:srgbClr val="000000"/>
                </a:solidFill>
                <a:miter/>
              </a:ln>
              <a:noFill/>
              <a:uFillTx/>
              <a:latin typeface="黑体"/>
              <a:ea typeface="黑体"/>
            </a:endParaRPr>
          </a:p>
        </p:txBody>
      </p:sp>
      <p:sp>
        <p:nvSpPr>
          <p:cNvPr id="5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同侧圆角矩形 1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LAM00037l"/>
          <p:cNvPicPr/>
          <p:nvPr/>
        </p:nvPicPr>
        <p:blipFill>
          <a:blip r:embed="rId1"/>
          <a:stretch/>
        </p:blipFill>
        <p:spPr>
          <a:xfrm>
            <a:off x="179280" y="1044720"/>
            <a:ext cx="6908760" cy="532908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3"/>
          <p:cNvSpPr/>
          <p:nvPr/>
        </p:nvSpPr>
        <p:spPr>
          <a:xfrm>
            <a:off x="6661080" y="1844640"/>
            <a:ext cx="10065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Calibri"/>
                <a:ea typeface="方正楷体简体"/>
              </a:rPr>
              <a:t>台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Calibri"/>
                <a:ea typeface="方正楷体简体"/>
              </a:rPr>
              <a:t>灯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6516720" y="463680"/>
            <a:ext cx="2057400" cy="1503360"/>
            <a:chOff x="6516720" y="463680"/>
            <a:chExt cx="2057400" cy="1503360"/>
          </a:xfrm>
        </p:grpSpPr>
        <p:grpSp>
          <p:nvGrpSpPr>
            <p:cNvPr id="603" name="Group 5"/>
            <p:cNvGrpSpPr/>
            <p:nvPr/>
          </p:nvGrpSpPr>
          <p:grpSpPr>
            <a:xfrm>
              <a:off x="6534000" y="463680"/>
              <a:ext cx="2040120" cy="1503360"/>
              <a:chOff x="6534000" y="463680"/>
              <a:chExt cx="2040120" cy="1503360"/>
            </a:xfrm>
          </p:grpSpPr>
          <p:sp>
            <p:nvSpPr>
              <p:cNvPr id="604" name="Rectangle 6"/>
              <p:cNvSpPr/>
              <p:nvPr/>
            </p:nvSpPr>
            <p:spPr>
              <a:xfrm rot="1834800">
                <a:off x="6770520" y="620640"/>
                <a:ext cx="94284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05" name="Rectangle 7"/>
              <p:cNvSpPr/>
              <p:nvPr/>
            </p:nvSpPr>
            <p:spPr>
              <a:xfrm>
                <a:off x="6829560" y="655560"/>
                <a:ext cx="17445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200" spc="-1" strike="noStrike" u="sng">
                    <a:solidFill>
                      <a:srgbClr val="ff0000"/>
                    </a:solidFill>
                    <a:uFillTx/>
                    <a:latin typeface="Comic Sans MS"/>
                    <a:ea typeface="宋体"/>
                  </a:rPr>
                  <a:t>ái</a:t>
                </a:r>
                <a:endParaRPr b="0" i="1" lang="en-US" sz="72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06" name="WordArt 8"/>
            <p:cNvSpPr txBox="1"/>
            <p:nvPr/>
          </p:nvSpPr>
          <p:spPr>
            <a:xfrm>
              <a:off x="6516720" y="957240"/>
              <a:ext cx="380880" cy="62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 u="sng">
                  <a:ln w="9360">
                    <a:solidFill>
                      <a:srgbClr val="000000"/>
                    </a:solidFill>
                    <a:miter/>
                  </a:ln>
                  <a:noFill/>
                  <a:uFillTx/>
                  <a:latin typeface="黑体"/>
                </a:rPr>
                <a:t>t</a:t>
              </a:r>
              <a:endParaRPr b="1" i="1" lang="en-US" sz="3200" spc="1" strike="noStrike" u="sng">
                <a:ln w="9360">
                  <a:solidFill>
                    <a:srgbClr val="000000"/>
                  </a:solidFill>
                  <a:miter/>
                </a:ln>
                <a:noFill/>
                <a:uFillTx/>
                <a:latin typeface="黑体"/>
                <a:ea typeface="黑体"/>
              </a:endParaRPr>
            </a:p>
          </p:txBody>
        </p:sp>
      </p:grpSp>
      <p:sp>
        <p:nvSpPr>
          <p:cNvPr id="60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3114720" cy="426708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"/>
          <p:cNvSpPr/>
          <p:nvPr/>
        </p:nvSpPr>
        <p:spPr>
          <a:xfrm>
            <a:off x="8029440" y="1054080"/>
            <a:ext cx="111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c</a:t>
            </a: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Comic Sans MS"/>
                <a:ea typeface="Dotum"/>
              </a:rPr>
              <a:t>à</a:t>
            </a: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i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093080" y="1125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b</a:t>
            </a: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Comic Sans MS"/>
                <a:ea typeface="宋体"/>
              </a:rPr>
              <a:t>á</a:t>
            </a: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i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3" name="Group 5"/>
          <p:cNvGrpSpPr/>
          <p:nvPr/>
        </p:nvGrpSpPr>
        <p:grpSpPr>
          <a:xfrm>
            <a:off x="3505320" y="2637000"/>
            <a:ext cx="1139760" cy="3479760"/>
            <a:chOff x="3505320" y="2637000"/>
            <a:chExt cx="1139760" cy="3479760"/>
          </a:xfrm>
        </p:grpSpPr>
        <p:sp>
          <p:nvSpPr>
            <p:cNvPr id="614" name="Freeform 6"/>
            <p:cNvSpPr/>
            <p:nvPr/>
          </p:nvSpPr>
          <p:spPr>
            <a:xfrm>
              <a:off x="3865680" y="4364280"/>
              <a:ext cx="495360" cy="1752480"/>
            </a:xfrm>
            <a:custGeom>
              <a:avLst/>
              <a:gdLst/>
              <a:ahLst/>
              <a:rect l="l" t="t" r="r" b="b"/>
              <a:pathLst>
                <a:path w="312" h="1104">
                  <a:moveTo>
                    <a:pt x="168" y="0"/>
                  </a:moveTo>
                  <a:cubicBezTo>
                    <a:pt x="84" y="220"/>
                    <a:pt x="0" y="440"/>
                    <a:pt x="24" y="576"/>
                  </a:cubicBezTo>
                  <a:cubicBezTo>
                    <a:pt x="48" y="712"/>
                    <a:pt x="312" y="728"/>
                    <a:pt x="312" y="816"/>
                  </a:cubicBezTo>
                  <a:cubicBezTo>
                    <a:pt x="312" y="904"/>
                    <a:pt x="72" y="1056"/>
                    <a:pt x="24" y="11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5" name="Oval 7"/>
            <p:cNvSpPr/>
            <p:nvPr/>
          </p:nvSpPr>
          <p:spPr>
            <a:xfrm>
              <a:off x="3505320" y="2637000"/>
              <a:ext cx="1066680" cy="182880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6" name="Text Box 8"/>
            <p:cNvSpPr/>
            <p:nvPr/>
          </p:nvSpPr>
          <p:spPr>
            <a:xfrm>
              <a:off x="3578400" y="2637000"/>
              <a:ext cx="1066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9600" spc="-1" strike="noStrike" u="sng">
                  <a:solidFill>
                    <a:srgbClr val="3366ff"/>
                  </a:solidFill>
                  <a:uFillTx/>
                  <a:latin typeface="宋体"/>
                  <a:ea typeface="宋体"/>
                </a:rPr>
                <a:t>u</a:t>
              </a:r>
              <a:r>
                <a:rPr b="0" i="1" lang="zh-CN" sz="9600" spc="-1" strike="noStrike" u="sng">
                  <a:solidFill>
                    <a:srgbClr val="3366ff"/>
                  </a:solidFill>
                  <a:uFillTx/>
                  <a:latin typeface="Calibri"/>
                  <a:ea typeface="宋体"/>
                </a:rPr>
                <a:t> </a:t>
              </a:r>
              <a:endParaRPr b="0" i="1" lang="en-US" sz="9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17" name="Text Box 9"/>
          <p:cNvSpPr/>
          <p:nvPr/>
        </p:nvSpPr>
        <p:spPr>
          <a:xfrm>
            <a:off x="3425760" y="11970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复韵母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WordArt 2"/>
          <p:cNvSpPr txBox="1"/>
          <p:nvPr/>
        </p:nvSpPr>
        <p:spPr>
          <a:xfrm>
            <a:off x="5580000" y="263700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 u="sng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uFillTx/>
                <a:latin typeface="方正姚体"/>
              </a:rPr>
              <a:t>ui</a:t>
            </a:r>
            <a:endParaRPr b="0" i="1" lang="en-US" sz="2400" spc="1" strike="noStrike" u="sng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uFillTx/>
              <a:latin typeface="方正姚体"/>
              <a:ea typeface="方正姚体"/>
            </a:endParaRPr>
          </a:p>
        </p:txBody>
      </p:sp>
      <p:grpSp>
        <p:nvGrpSpPr>
          <p:cNvPr id="622" name="Group 3"/>
          <p:cNvGrpSpPr/>
          <p:nvPr/>
        </p:nvGrpSpPr>
        <p:grpSpPr>
          <a:xfrm>
            <a:off x="4211640" y="5013360"/>
            <a:ext cx="4648320" cy="895320"/>
            <a:chOff x="4211640" y="5013360"/>
            <a:chExt cx="4648320" cy="895320"/>
          </a:xfrm>
        </p:grpSpPr>
        <p:sp>
          <p:nvSpPr>
            <p:cNvPr id="623" name="WordArt 4"/>
            <p:cNvSpPr txBox="1"/>
            <p:nvPr/>
          </p:nvSpPr>
          <p:spPr>
            <a:xfrm>
              <a:off x="4211640" y="5013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 u="sng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uFillTx/>
                  <a:latin typeface="方正姚体"/>
                </a:rPr>
                <a:t>uī</a:t>
              </a:r>
              <a:endParaRPr b="0" i="1" lang="en-US" sz="2400" spc="1" strike="noStrike" u="sng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uFillTx/>
                <a:latin typeface="方正姚体"/>
                <a:ea typeface="方正姚体"/>
              </a:endParaRPr>
            </a:p>
          </p:txBody>
        </p:sp>
        <p:sp>
          <p:nvSpPr>
            <p:cNvPr id="624" name="WordArt 5"/>
            <p:cNvSpPr txBox="1"/>
            <p:nvPr/>
          </p:nvSpPr>
          <p:spPr>
            <a:xfrm>
              <a:off x="5506920" y="5013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 u="sng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uFillTx/>
                  <a:latin typeface="方正姚体"/>
                </a:rPr>
                <a:t>uí</a:t>
              </a:r>
              <a:endParaRPr b="0" i="1" lang="en-US" sz="2400" spc="1" strike="noStrike" u="sng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uFillTx/>
                <a:latin typeface="方正姚体"/>
                <a:ea typeface="方正姚体"/>
              </a:endParaRPr>
            </a:p>
          </p:txBody>
        </p:sp>
        <p:sp>
          <p:nvSpPr>
            <p:cNvPr id="625" name="WordArt 6"/>
            <p:cNvSpPr txBox="1"/>
            <p:nvPr/>
          </p:nvSpPr>
          <p:spPr>
            <a:xfrm>
              <a:off x="6802560" y="5013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 u="sng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uFillTx/>
                  <a:latin typeface="方正姚体"/>
                </a:rPr>
                <a:t>uǐ</a:t>
              </a:r>
              <a:endParaRPr b="0" i="1" lang="en-US" sz="2400" spc="1" strike="noStrike" u="sng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uFillTx/>
                <a:latin typeface="方正姚体"/>
                <a:ea typeface="方正姚体"/>
              </a:endParaRPr>
            </a:p>
          </p:txBody>
        </p:sp>
        <p:sp>
          <p:nvSpPr>
            <p:cNvPr id="626" name="WordArt 7"/>
            <p:cNvSpPr txBox="1"/>
            <p:nvPr/>
          </p:nvSpPr>
          <p:spPr>
            <a:xfrm>
              <a:off x="8097840" y="5013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 u="sng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uFillTx/>
                  <a:latin typeface="方正姚体"/>
                </a:rPr>
                <a:t>uì</a:t>
              </a:r>
              <a:endParaRPr b="0" i="1" lang="en-US" sz="2400" spc="1" strike="noStrike" u="sng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uFillTx/>
                <a:latin typeface="方正姚体"/>
                <a:ea typeface="方正姚体"/>
              </a:endParaRPr>
            </a:p>
          </p:txBody>
        </p:sp>
      </p:grpSp>
      <p:sp>
        <p:nvSpPr>
          <p:cNvPr id="627" name="Text Box 8"/>
          <p:cNvSpPr/>
          <p:nvPr/>
        </p:nvSpPr>
        <p:spPr>
          <a:xfrm>
            <a:off x="4829400" y="116676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ff"/>
                </a:solidFill>
                <a:uFillTx/>
                <a:latin typeface="Calibri"/>
                <a:ea typeface="方正楷体简体"/>
              </a:rPr>
              <a:t>围上围巾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8" name="Picture 9" descr="c"/>
          <p:cNvPicPr/>
          <p:nvPr/>
        </p:nvPicPr>
        <p:blipFill>
          <a:blip r:embed="rId1"/>
          <a:stretch/>
        </p:blipFill>
        <p:spPr>
          <a:xfrm>
            <a:off x="108000" y="1054080"/>
            <a:ext cx="4444920" cy="5227560"/>
          </a:xfrm>
          <a:prstGeom prst="rect">
            <a:avLst/>
          </a:prstGeom>
          <a:ln w="0">
            <a:noFill/>
          </a:ln>
        </p:spPr>
      </p:pic>
      <p:sp>
        <p:nvSpPr>
          <p:cNvPr id="62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0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圆角矩形 2"/>
          <p:cNvSpPr/>
          <p:nvPr/>
        </p:nvSpPr>
        <p:spPr>
          <a:xfrm>
            <a:off x="2556000" y="1733400"/>
            <a:ext cx="4752720" cy="4075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椭圆 12"/>
          <p:cNvSpPr/>
          <p:nvPr/>
        </p:nvSpPr>
        <p:spPr>
          <a:xfrm>
            <a:off x="522360" y="471960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椭圆 11"/>
          <p:cNvSpPr/>
          <p:nvPr/>
        </p:nvSpPr>
        <p:spPr>
          <a:xfrm>
            <a:off x="527040" y="3174840"/>
            <a:ext cx="1104840" cy="1089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5" name="椭圆 1"/>
          <p:cNvSpPr/>
          <p:nvPr/>
        </p:nvSpPr>
        <p:spPr>
          <a:xfrm>
            <a:off x="527040" y="146844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4215960" y="1166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Calibri"/>
                <a:ea typeface="方正楷体简体"/>
              </a:rPr>
              <a:t>读儿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851760" y="1733400"/>
            <a:ext cx="4550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Calibri"/>
                <a:ea typeface="方正楷体简体"/>
              </a:rPr>
              <a:t>小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Calibri"/>
                <a:ea typeface="方正楷体简体"/>
              </a:rPr>
              <a:t>白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Calibri"/>
                <a:ea typeface="方正楷体简体"/>
              </a:rPr>
              <a:t>兔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2987640" y="2565360"/>
            <a:ext cx="7623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小白兔，穿皮袄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耳朵长，尾巴小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三瓣嘴，胡子翘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同侧圆角矩形 10"/>
          <p:cNvSpPr/>
          <p:nvPr/>
        </p:nvSpPr>
        <p:spPr>
          <a:xfrm>
            <a:off x="755640" y="1012680"/>
            <a:ext cx="2000160" cy="516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拓展提升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1" name="直线连接符 21"/>
          <p:cNvSpPr/>
          <p:nvPr/>
        </p:nvSpPr>
        <p:spPr>
          <a:xfrm flipV="1">
            <a:off x="755640" y="1587240"/>
            <a:ext cx="2071800" cy="612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图片 14" descr=""/>
          <p:cNvPicPr/>
          <p:nvPr/>
        </p:nvPicPr>
        <p:blipFill>
          <a:blip r:embed="rId1"/>
          <a:stretch/>
        </p:blipFill>
        <p:spPr>
          <a:xfrm>
            <a:off x="5721480" y="2565360"/>
            <a:ext cx="2600280" cy="351468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13" descr=""/>
          <p:cNvPicPr/>
          <p:nvPr/>
        </p:nvPicPr>
        <p:blipFill>
          <a:blip r:embed="rId2"/>
          <a:stretch/>
        </p:blipFill>
        <p:spPr>
          <a:xfrm>
            <a:off x="3241800" y="2565360"/>
            <a:ext cx="2600280" cy="3514680"/>
          </a:xfrm>
          <a:prstGeom prst="rect">
            <a:avLst/>
          </a:prstGeom>
          <a:ln w="0">
            <a:noFill/>
          </a:ln>
        </p:spPr>
      </p:pic>
      <p:pic>
        <p:nvPicPr>
          <p:cNvPr id="644" name="图片 1" descr=""/>
          <p:cNvPicPr/>
          <p:nvPr/>
        </p:nvPicPr>
        <p:blipFill>
          <a:blip r:embed="rId3"/>
          <a:stretch/>
        </p:blipFill>
        <p:spPr>
          <a:xfrm>
            <a:off x="865080" y="2565360"/>
            <a:ext cx="2600280" cy="35146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A1_151"/>
          <p:cNvPicPr/>
          <p:nvPr/>
        </p:nvPicPr>
        <p:blipFill>
          <a:blip r:embed="rId4"/>
          <a:stretch/>
        </p:blipFill>
        <p:spPr>
          <a:xfrm>
            <a:off x="7093080" y="3789360"/>
            <a:ext cx="2228760" cy="327672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3"/>
          <p:cNvSpPr/>
          <p:nvPr/>
        </p:nvSpPr>
        <p:spPr>
          <a:xfrm>
            <a:off x="1332000" y="33926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    </a:t>
            </a: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肥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WordArt 5"/>
          <p:cNvSpPr txBox="1"/>
          <p:nvPr/>
        </p:nvSpPr>
        <p:spPr>
          <a:xfrm>
            <a:off x="3241800" y="1351080"/>
            <a:ext cx="218592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uFillTx/>
                <a:latin typeface="Arial"/>
              </a:rPr>
              <a:t>我会读</a:t>
            </a:r>
            <a:endParaRPr b="1" i="1" lang="en-US" sz="2400" spc="1" strike="noStrike" u="sng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uFillTx/>
              <a:latin typeface="Arial"/>
              <a:ea typeface="Arial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6726240" y="3327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排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4273560" y="3327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1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随堂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71bd4fc821f3d768f21fe7dc"/>
          <p:cNvPicPr/>
          <p:nvPr/>
        </p:nvPicPr>
        <p:blipFill>
          <a:blip r:embed="rId1"/>
          <a:stretch/>
        </p:blipFill>
        <p:spPr>
          <a:xfrm>
            <a:off x="826920" y="779400"/>
            <a:ext cx="8066160" cy="5531040"/>
          </a:xfrm>
          <a:prstGeom prst="rect">
            <a:avLst/>
          </a:prstGeom>
          <a:ln w="0">
            <a:noFill/>
          </a:ln>
        </p:spPr>
      </p:pic>
      <p:sp>
        <p:nvSpPr>
          <p:cNvPr id="515" name="WordArt 3"/>
          <p:cNvSpPr txBox="1"/>
          <p:nvPr/>
        </p:nvSpPr>
        <p:spPr>
          <a:xfrm>
            <a:off x="2627280" y="2492280"/>
            <a:ext cx="4465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uFillTx/>
                <a:latin typeface="黑体"/>
              </a:rPr>
              <a:t>ɑi ei 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3708360" y="15559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cc0000"/>
                </a:solidFill>
                <a:uFillTx/>
                <a:latin typeface="Arial"/>
                <a:ea typeface="宋体"/>
              </a:rPr>
              <a:t>初识新朋友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671400" y="1989000"/>
            <a:ext cx="7737480" cy="44308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3"/>
          <p:cNvSpPr/>
          <p:nvPr/>
        </p:nvSpPr>
        <p:spPr>
          <a:xfrm>
            <a:off x="3203640" y="119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快乐读拼音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755640" y="2062080"/>
            <a:ext cx="7489800" cy="436104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3749760" y="1197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四声练习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WordArt 2"/>
          <p:cNvSpPr txBox="1"/>
          <p:nvPr/>
        </p:nvSpPr>
        <p:spPr>
          <a:xfrm>
            <a:off x="6012000" y="1773360"/>
            <a:ext cx="17809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 u="sng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uFillTx/>
                <a:latin typeface="方正姚体"/>
              </a:rPr>
              <a:t>ei</a:t>
            </a:r>
            <a:endParaRPr b="0" i="1" lang="en-US" sz="2400" spc="1" strike="noStrike" u="sng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uFillTx/>
              <a:latin typeface="方正姚体"/>
              <a:ea typeface="方正姚体"/>
            </a:endParaRPr>
          </a:p>
        </p:txBody>
      </p:sp>
      <p:pic>
        <p:nvPicPr>
          <p:cNvPr id="531" name="Picture 3" descr="a"/>
          <p:cNvPicPr/>
          <p:nvPr/>
        </p:nvPicPr>
        <p:blipFill>
          <a:blip r:embed="rId1"/>
          <a:stretch/>
        </p:blipFill>
        <p:spPr>
          <a:xfrm>
            <a:off x="684360" y="1255680"/>
            <a:ext cx="4427280" cy="4654440"/>
          </a:xfrm>
          <a:prstGeom prst="rect">
            <a:avLst/>
          </a:prstGeom>
          <a:ln w="0">
            <a:noFill/>
          </a:ln>
        </p:spPr>
      </p:pic>
      <p:sp>
        <p:nvSpPr>
          <p:cNvPr id="53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82120" cy="4232520"/>
          </a:xfrm>
          <a:prstGeom prst="rect">
            <a:avLst/>
          </a:prstGeom>
          <a:ln w="0">
            <a:noFill/>
          </a:ln>
        </p:spPr>
      </p:pic>
      <p:sp>
        <p:nvSpPr>
          <p:cNvPr id="5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468360" y="69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四声读法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550800" y="1544760"/>
            <a:ext cx="8229600" cy="3382920"/>
          </a:xfrm>
          <a:prstGeom prst="rect">
            <a:avLst/>
          </a:prstGeom>
          <a:ln w="0">
            <a:noFill/>
          </a:ln>
        </p:spPr>
      </p:pic>
      <p:sp>
        <p:nvSpPr>
          <p:cNvPr id="5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1258920" y="104940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b----ei----bei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5" name="Picture 3" descr="0310020073"/>
          <p:cNvPicPr/>
          <p:nvPr/>
        </p:nvPicPr>
        <p:blipFill>
          <a:blip r:embed="rId1"/>
          <a:stretch/>
        </p:blipFill>
        <p:spPr>
          <a:xfrm>
            <a:off x="3354480" y="4530600"/>
            <a:ext cx="2651040" cy="18003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2"/>
          <p:cNvPicPr/>
          <p:nvPr/>
        </p:nvPicPr>
        <p:blipFill>
          <a:blip r:embed="rId2"/>
          <a:stretch/>
        </p:blipFill>
        <p:spPr>
          <a:xfrm>
            <a:off x="6229440" y="2133720"/>
            <a:ext cx="2246400" cy="1439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4"/>
          <p:cNvPicPr/>
          <p:nvPr/>
        </p:nvPicPr>
        <p:blipFill>
          <a:blip r:embed="rId3"/>
          <a:stretch/>
        </p:blipFill>
        <p:spPr>
          <a:xfrm>
            <a:off x="6445080" y="4403880"/>
            <a:ext cx="2108520" cy="20332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6" descr="5"/>
          <p:cNvPicPr/>
          <p:nvPr/>
        </p:nvPicPr>
        <p:blipFill>
          <a:blip r:embed="rId4"/>
          <a:stretch/>
        </p:blipFill>
        <p:spPr>
          <a:xfrm>
            <a:off x="898560" y="2133720"/>
            <a:ext cx="2279520" cy="15206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0310020007"/>
          <p:cNvPicPr/>
          <p:nvPr/>
        </p:nvPicPr>
        <p:blipFill>
          <a:blip r:embed="rId5"/>
          <a:stretch/>
        </p:blipFill>
        <p:spPr>
          <a:xfrm>
            <a:off x="3548160" y="2155680"/>
            <a:ext cx="2455920" cy="1522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8" descr="0310020061"/>
          <p:cNvPicPr/>
          <p:nvPr/>
        </p:nvPicPr>
        <p:blipFill>
          <a:blip r:embed="rId6"/>
          <a:stretch/>
        </p:blipFill>
        <p:spPr>
          <a:xfrm>
            <a:off x="485640" y="4510080"/>
            <a:ext cx="2521080" cy="1798560"/>
          </a:xfrm>
          <a:prstGeom prst="rect">
            <a:avLst/>
          </a:prstGeom>
          <a:ln w="0">
            <a:noFill/>
          </a:ln>
        </p:spPr>
      </p:pic>
      <p:sp>
        <p:nvSpPr>
          <p:cNvPr id="5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395280" y="981000"/>
            <a:ext cx="518472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有 </a:t>
            </a:r>
            <a:r>
              <a:rPr b="0" i="1" lang="en-US" sz="48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ɑ</a:t>
            </a:r>
            <a:r>
              <a:rPr b="0" i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在，把帽戴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ɑ</a:t>
            </a:r>
            <a:r>
              <a:rPr b="0" i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要不在 </a:t>
            </a:r>
            <a:r>
              <a:rPr b="0" i="1" lang="en-US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o e </a:t>
            </a:r>
            <a:r>
              <a:rPr b="0" i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戴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要是 </a:t>
            </a:r>
            <a:r>
              <a:rPr b="0" i="1" lang="en-US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i u </a:t>
            </a:r>
            <a:r>
              <a:rPr b="0" i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一起来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谁在后边给谁戴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WordArt 3"/>
          <p:cNvSpPr txBox="1"/>
          <p:nvPr/>
        </p:nvSpPr>
        <p:spPr>
          <a:xfrm>
            <a:off x="4572000" y="981000"/>
            <a:ext cx="324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uFillTx/>
                <a:latin typeface="Arial"/>
              </a:rPr>
              <a:t>标调歌</a:t>
            </a:r>
            <a:endParaRPr b="0" i="1" lang="en-US" sz="2400" spc="-1" strike="noStrike" u="sng">
              <a:ln w="0">
                <a:noFill/>
              </a:ln>
              <a:solidFill>
                <a:srgbClr val="00b050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uFillTx/>
              <a:latin typeface="Arial"/>
              <a:ea typeface="Arial"/>
            </a:endParaRPr>
          </a:p>
        </p:txBody>
      </p:sp>
      <p:pic>
        <p:nvPicPr>
          <p:cNvPr id="556" name="图片 1" descr=""/>
          <p:cNvPicPr/>
          <p:nvPr/>
        </p:nvPicPr>
        <p:blipFill>
          <a:blip r:embed="rId1"/>
          <a:stretch/>
        </p:blipFill>
        <p:spPr>
          <a:xfrm>
            <a:off x="4862520" y="3446640"/>
            <a:ext cx="3666960" cy="2404800"/>
          </a:xfrm>
          <a:prstGeom prst="rect">
            <a:avLst/>
          </a:prstGeom>
          <a:ln w="0">
            <a:noFill/>
          </a:ln>
        </p:spPr>
      </p:pic>
      <p:sp>
        <p:nvSpPr>
          <p:cNvPr id="55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拓展提升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44:00Z</dcterms:created>
  <dc:creator/>
  <dc:description/>
  <dc:language>en-US</dc:language>
  <cp:lastModifiedBy>万润仪器贸易公司</cp:lastModifiedBy>
  <dcterms:modified xsi:type="dcterms:W3CDTF">2020-08-24T01:43:15Z</dcterms:modified>
  <cp:revision>6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